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7A0-B3DF-403A-814E-08472D9E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C77-84A5-4D5C-B3E6-CAD04C77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409-72FB-4BC3-8705-CFC021CF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33B-017A-48F5-B80B-62686FC6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E07D-CFB3-4743-A6B0-EF204018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5903-4A3D-449E-AD9E-EF6F827E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E3C6-7717-4DE0-A5B3-EEC6776A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207C-16BA-414D-8BA5-EE3B9A46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C322-554F-4BE6-A7E7-957CAC58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0789-299A-4996-8B90-BFFDB48D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3B50-F85C-43EF-9C01-9D8AB0C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A9D-158F-43DE-8E50-A8B04824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ED6F-7128-419B-A10A-6A956D55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F65E-96C8-4DFB-9D56-79E284FE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38A8-1C5A-4228-B7DA-6391784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ED02-02DF-4520-AEC8-EE555B42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49D7-1276-4F65-BDCD-37F59C17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D39-BAF6-4428-9AC8-6B01E22C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674-BE87-4B56-BB45-23E24DF8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F75-3FC2-482A-BBB4-506D351A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F59-8139-43D1-92A1-DF107247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49E-36CB-4742-8ECB-C82B205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192-A65A-464B-8C59-54B95ED4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511-96BF-4CFA-BC63-199F7EE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2ED2-39D8-4A97-967C-D5EDDFA2A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02C4-CDA4-4F76-A9DB-AF2B82580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33ccc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Models – J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6141960"/>
            <a:ext cx="3504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Fergu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Nich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6520" y="2895480"/>
          <a:ext cx="563868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563868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600200" y="1600200"/>
            <a:ext cx="60199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eenPoint Brew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ecasting and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1020600"/>
            <a:ext cx="6477120" cy="416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525780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work required to refine trend and sea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58200" y="6324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for each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the combination of individual grains to be or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order quantity for 6 major beer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freight delivery uni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6324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ust input MIN and MAX months grain usage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needs to account for 1 year peris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greater than MIN grain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less than MAX grain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grain order must be full bags and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must be less than physical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ins from Wisconsin (60%) and RI (40%) space based on past grain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determines the min and max grain usage based on parameters enter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/ Month / Min /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retrieve usage (forecast) and ending inventory data from consolidated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s are the number of full bags to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the number of pallets in order to take advantage of quantity freight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Proving the optimization of order quantity using 2004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6094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NUARY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6160" y="1066680"/>
            <a:ext cx="8845560" cy="49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6094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6680" y="1066680"/>
            <a:ext cx="882504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 /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nter’s Model to forecast grain 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ime and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emergency orde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ccurate input for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olver model to optimize ordering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 to minimize freigh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ght costs for year will be further reduced when seasonal grain is added to th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disruption to operations due to less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to review models with Kelly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problems and how the models will help sol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more detail on seasonality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n monthly usage in opening yea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opening of Empire State Heartland sales location in Nov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 mod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spreadsheet look and feel needs to be agreed upon with K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models needs to match Kelly’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219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/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enPoint Brewery -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19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brewer for Heartland Brew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- Brooklyn, 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wmaster – Kelly Tay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production – 10,000 K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ws at any given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tandard B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easonal B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enPoint Brewery -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219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different grains for standard b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Wisconsin (for Si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from Wisconsin (50 pound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rom Rhode Island (55 pound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additional grains used for sea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in unit costs do NOT vary by orde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ight delivery unit costs DO vary based on orde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ly maintains yearly spreadsheet with monthly data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forecast future grai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for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production planning using inaccurat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costly emergency orders for stock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ordering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orders – forgoes freight quantity discou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 disruption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future individual grain demand for           the 6 standard b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s to minimize time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beer grain demand requires clos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is sea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grain requirements vary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in delivery freight costs vary by orde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ree Exponential Smoothing forecasting models using historic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 historical data into single spreadsheet     (2003 –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integrate 2005 and 2006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using Simple Smoothing, Holt, Win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moothing &amp; Hol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curate, create shortfall/excess grain on h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s future usage based on historic sea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supplemented by safety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work required to refine trend and sea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models - comparis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for Briess grain (major ingred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data for Briess grain usage for 6 major b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47920" y="1074600"/>
          <a:ext cx="64008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74600"/>
                    <a:ext cx="6400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7:28:49Z</dcterms:created>
  <dc:creator>Jim Ferguson</dc:creator>
  <dc:description/>
  <dc:language>en-US</dc:language>
  <cp:lastModifiedBy>Jim Ferguson</cp:lastModifiedBy>
  <dcterms:modified xsi:type="dcterms:W3CDTF">2005-08-12T15:25:56Z</dcterms:modified>
  <cp:revision>167</cp:revision>
  <dc:subject/>
  <dc:title>Online Music Industry: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4572757</vt:r8>
  </property>
  <property fmtid="{D5CDD505-2E9C-101B-9397-08002B2CF9AE}" pid="3" name="_AuthorEmail">
    <vt:lpwstr>fergusoj@toysrus.com</vt:lpwstr>
  </property>
  <property fmtid="{D5CDD505-2E9C-101B-9397-08002B2CF9AE}" pid="4" name="_AuthorEmailDisplayName">
    <vt:lpwstr>Ferguson, Jim</vt:lpwstr>
  </property>
  <property fmtid="{D5CDD505-2E9C-101B-9397-08002B2CF9AE}" pid="5" name="_EmailSubject">
    <vt:lpwstr>Loyal Bastards</vt:lpwstr>
  </property>
  <property fmtid="{D5CDD505-2E9C-101B-9397-08002B2CF9AE}" pid="6" name="_PreviousAdHocReviewCycleID">
    <vt:r8>-306767934</vt:r8>
  </property>
</Properties>
</file>